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AE04-8757-4A1E-8B3E-6D5B8EFC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1FC-DF4C-4AF6-B8BD-0FFC7DEB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427-0B1C-4540-8211-FE831CD0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EF5-451F-409F-B8ED-F3BD4163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D95-7B78-4E3A-B75A-4BD7708A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80B-4E56-40B9-8506-DEB2C430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9E09-9812-4249-A9C6-6BF0B5CE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024-E20B-4502-8E58-C34C05B9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8EC-2BFA-48B0-A686-3B2A58B7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57A-B619-4627-985A-2C4D0F89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745-A66C-4FA6-B16A-854B403E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15E1-C893-495B-8875-8D3491ED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FDAA-B055-42DF-9585-F4E4CB98A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37840" y="217440"/>
            <a:ext cx="44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al tub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57680" y="12193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4600" y="522288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al plate-&gt; neural keel-&gt; neural rod-&gt; neural tube-&gt; spinal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eds in and anterior to posterior fash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The image “http://www.ans.iastate.edu/research/reecy/images/reecy/reecy_image5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3838680" y="457200"/>
            <a:ext cx="3247920" cy="532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8800" y="365760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ural c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95480" y="3352320"/>
            <a:ext cx="4572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3886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60440" y="1411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r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0199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wo fields fuse into a tube, which undergoes looping and addition of neural crest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21:56:26Z</dcterms:created>
  <dc:creator>Melissa Haendel</dc:creator>
  <dc:description/>
  <dc:language>en-US</dc:language>
  <cp:lastModifiedBy>zfin user</cp:lastModifiedBy>
  <dcterms:modified xsi:type="dcterms:W3CDTF">2008-05-19T20:50:24Z</dcterms:modified>
  <cp:revision>5</cp:revision>
  <dc:subject/>
  <dc:title>Slide 1</dc:title>
</cp:coreProperties>
</file>